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EC1-6F8A-4F41-83DF-717CBE09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C74-E2DC-48C2-9FB2-88BAA687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07A-B324-4635-9487-C9EC89DF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B35-184C-42B7-B674-19935BAF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94D-FCD6-4102-8E4F-C86CF4AE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97D-D182-435B-B0B7-26F84FB5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6D9-950E-4FF0-B8C9-92D83E9C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816-CB72-47BA-A6F5-76A445AA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61C-1D9B-4BA3-AD14-E80C8F27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128-38CC-4521-A712-8152ED9E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2BD-EF68-4FA9-B7F8-DD803497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6DE-A8E3-4DEE-8AEF-B6BB230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D45C-224E-42C7-8EC5-3E15B0404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make their po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y bu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Pencils are the most convenient wri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They come in large amounts and are che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hey have a built in eraser to fix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mall and portable to carr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297180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a splash of Colo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ored pencils are the same as pencils except without erasers and in many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major color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the f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n’t stop there, they come in every color in-betw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2971800" cy="20844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 many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ncils come in many different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ernard MT Condensed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Euphemia UCAS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Euphemia UCAS Italic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igns and special occ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2514600" cy="221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717480" cy="19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9320" y="510552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ff"/>
                </a:solidFill>
                <a:latin typeface="Arial"/>
              </a:rPr>
              <a:t>Era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f you use your beloved pencil enough then the eraser will run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N’T PAN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can buy special erasers that fit on the end of your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For heavy duty erasing you can buy big hand-held era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8:38:34Z</dcterms:created>
  <dc:creator>Educational Technology</dc:creator>
  <dc:description/>
  <dc:language>en-US</dc:language>
  <cp:lastModifiedBy>Educational Technology</cp:lastModifiedBy>
  <dcterms:modified xsi:type="dcterms:W3CDTF">2007-05-23T13:07:54Z</dcterms:modified>
  <cp:revision>3</cp:revision>
  <dc:subject/>
  <dc:title>Pencils</dc:title>
</cp:coreProperties>
</file>